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7C3-CD6A-44A1-94DF-3002D39D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887-2430-442A-B5D1-A3D78AA9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234-2068-47B8-B8B2-531B5E0B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EEE-EAA0-4604-840A-F72C5382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0F9-837D-46CD-8846-EE0BE89D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2AE-5733-4C36-8A4F-E329B460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5BF-CB85-4406-874B-5D98DBB5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DD8-56BF-4051-8974-9FD51232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7DF-34BE-4CAB-A271-00391F2A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1AE-B055-4C6D-B185-132680CE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AA9-E982-484A-AB63-9C51D2EE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F1B-3959-45CA-9598-AFEACD87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5847-D28A-4EFA-9BC4-4B1A6C89082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602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35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السورة باسم إبراهي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شتمالها على دعوات إبراهيم عليه ال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إبراهيم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5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إبراهي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 مك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ائف الرسل عليهم الصلاة و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9"/>
          <p:cNvSpPr/>
          <p:nvPr/>
        </p:nvSpPr>
        <p:spPr>
          <a:xfrm>
            <a:off x="8820000" y="1662120"/>
            <a:ext cx="0" cy="17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حقيقة وحدة الرسا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ثرة نعم الله تعالى على النا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5T16:06:45Z</dcterms:modified>
  <cp:revision>1811</cp:revision>
  <dc:subject/>
  <dc:title>عرض تقديمي في PowerPoint</dc:title>
</cp:coreProperties>
</file>